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7665-1E1E-4641-B32A-CEEB8E610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6B63-42F9-4073-9CD2-957409871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4AAA-6489-47CC-99BA-B4104FD6B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899E-EB89-4814-A09C-2CE40D6DC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9A5C8-2513-46FF-8B22-0A9F302EA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956D6-D8AD-445C-91C2-C2D3896AA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952BA-182D-44E6-B016-921A3BA1E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23266-76A4-4AEE-A35E-94D5F83CF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D890E-245B-469E-950D-517840184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75599-2A02-406C-8E93-45B9D9C70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C723C-37CC-43BC-A3B4-19682425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E86B-F400-45A0-B0F5-66E917131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B379E-D58D-4171-A266-D57577813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285E6-F91C-403D-9C7B-D07C3ACBF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B40EE-C209-440B-B8F5-BD42D1120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4A965-B418-4D16-9192-16A5C9B4F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C3984-750C-477A-B6BD-01E4D2030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9D33-B7C0-4961-8296-A46343B8E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330B-AAA8-473C-B07F-F558EF449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EB3A-79D7-41E7-9818-2FAF4974D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6C02-FED7-4A0B-9826-B7D86A0C2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CE24-90BC-4B0C-A646-1273915B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2D38-F2CE-447F-9E45-96ED69B7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8902-3358-47AC-9DD8-A1A81B10A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f237f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3e7"/>
                    </a:gs>
                    <a:gs pos="100000">
                      <a:srgbClr val="9f237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03e7"/>
                    </a:gs>
                    <a:gs pos="100000">
                      <a:srgbClr val="753bc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53bcb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03e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753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CB996-F16B-4B8B-BF37-210353BF1F7F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f237f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9f237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03e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03e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8C770-AF62-484C-A44E-3197EA559343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Polic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By Khaya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5e is learning abou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polic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0" y="4514760"/>
            <a:ext cx="2050920" cy="234324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Police"/>
          <p:cNvPicPr/>
          <p:nvPr/>
        </p:nvPicPr>
        <p:blipFill>
          <a:blip r:embed="rId2"/>
          <a:stretch/>
        </p:blipFill>
        <p:spPr>
          <a:xfrm>
            <a:off x="7715160" y="5743440"/>
            <a:ext cx="1428840" cy="111456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340000" cy="1498680"/>
          </a:xfrm>
          <a:prstGeom prst="rect">
            <a:avLst/>
          </a:prstGeom>
          <a:ln w="0">
            <a:noFill/>
          </a:ln>
        </p:spPr>
      </p:pic>
    </p:spTree>
  </p:cSld>
  <p:transition spd="med" advTm="3000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Polic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Police can help peopl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Police have lots of job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Police have lots of car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Police can catch robber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Police can run very fas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2987640" y="5006880"/>
            <a:ext cx="3809880" cy="185112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771640" cy="1874880"/>
          </a:xfrm>
          <a:prstGeom prst="rect">
            <a:avLst/>
          </a:prstGeom>
          <a:ln w="0">
            <a:noFill/>
          </a:ln>
        </p:spPr>
      </p:pic>
    </p:spTree>
  </p:cSld>
  <p:transition spd="med" advTm="30000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Weapo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Police have weapon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Hand Cuffs and hand cuffs key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Guns and tazer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Pepper spra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4381560" y="3695760"/>
            <a:ext cx="4762440" cy="3162240"/>
          </a:xfrm>
          <a:prstGeom prst="rect">
            <a:avLst/>
          </a:prstGeom>
          <a:ln w="0">
            <a:noFill/>
          </a:ln>
        </p:spPr>
      </p:pic>
    </p:spTree>
  </p:cSld>
  <p:transition spd="med" advTm="30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Police Dog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Police dogs German Shepherd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Police dogs are very special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Police dogs comes from a litter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Police dogs have a useful nose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4" name="" descr="police clip art 13"/>
          <p:cNvPicPr/>
          <p:nvPr/>
        </p:nvPicPr>
        <p:blipFill>
          <a:blip r:embed="rId1"/>
          <a:stretch/>
        </p:blipFill>
        <p:spPr>
          <a:xfrm>
            <a:off x="684360" y="4653000"/>
            <a:ext cx="1180800" cy="137628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2050920" y="4724280"/>
            <a:ext cx="2521080" cy="119376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395280" y="189000"/>
            <a:ext cx="2016000" cy="151272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5651640" y="4589640"/>
            <a:ext cx="3024000" cy="2268360"/>
          </a:xfrm>
          <a:prstGeom prst="rect">
            <a:avLst/>
          </a:prstGeom>
          <a:ln w="0">
            <a:noFill/>
          </a:ln>
        </p:spPr>
      </p:pic>
    </p:spTree>
  </p:cSld>
  <p:transition spd="med" advTm="30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9T02:28:04Z</dcterms:created>
  <dc:creator>5e24</dc:creator>
  <dc:description/>
  <dc:language>en-US</dc:language>
  <cp:lastModifiedBy>5e24</cp:lastModifiedBy>
  <dcterms:modified xsi:type="dcterms:W3CDTF">2011-09-08T00:27:55Z</dcterms:modified>
  <cp:revision>6</cp:revision>
  <dc:subject/>
  <dc:title>police</dc:title>
</cp:coreProperties>
</file>